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F01A-5377-4453-8B5E-C7871FE17DF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170E-A6C8-4D80-93C2-C8588733FE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81DC-1EB3-4A3E-8E10-C21AA046C16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A534-2223-4E4E-88F9-D78947CE0D8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FE1B-4788-4B7E-A6B9-47CCBBAD1C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C019-23C2-42A9-85B8-CF88538BA9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8A8B-C3BB-4554-9895-B6CC69A08E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9C01-788A-48A2-A9A2-2B53C8A1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FEEA-EDA4-439E-8BB3-E77409BD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0842E-5038-4913-BEEA-3B506896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46E6D-1565-48F0-BC08-D34D107F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09412-83EC-4331-8740-42BD875A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AD922-81D4-4FA0-9119-E15955EA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9F286-71E2-4152-9F21-438424B3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494A6-9AA0-471F-9408-78C8D1DF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27072-0540-4BDF-A331-FF534627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90A1E-1035-4051-8AD2-E1787593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A5370-F16A-43CB-9A28-00F163E9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712FA-D35E-448B-B1EC-35561ADB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23B9-65A0-4C52-A612-F7BB92E3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ECF9D-361A-4212-9DC4-549B5689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8EB83-D3ED-49D1-86AB-8BD3BA39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BB219-FBA7-4937-97D2-92EBFF0C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FC391-3BB9-4DAA-A773-7F1B7C8B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53C0C-60D1-4F02-BF05-F0024138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EC3EB-07D6-4253-A078-9E1E58F2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9DCF4-78EE-47A7-B8FC-8E5B5F20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FBD0A-5AFB-4626-9801-55B5DD9E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8A8B5-624D-4B2A-9465-7571E880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1A4BA-5F8D-40BA-B699-9F1337B4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9F6D-FC8A-4771-BDEA-11A04BDF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B412E-80F7-4CCE-85E4-3A5776AB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83349-CA00-4FA3-86BA-4B5122BB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7E2B3-67A9-4485-BC71-4111EE58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4143F-11AE-400C-8182-E4A9138F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17B3A-A085-4DD5-A3F8-8075E95C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3BD16-154D-4032-9816-6BAE90D4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88C52-26D6-41FA-BE28-584270FA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9A412-C3D0-4422-9906-6157EC37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8D14E-2C03-4C57-AABA-6F3C9E9E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EB21A-1CE7-4A7B-88A0-FA2C169B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B5A4-48D7-43A8-AF80-2B197E62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33D33-B366-4CB2-A97A-7912D863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32FEE-CC9B-4252-98D5-CF04C588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45605-AE96-453B-903B-E8676F32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69468-10E8-46D9-A13A-AD39A589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D7A67-A893-4A8E-9AAD-BEB20E28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5AAB5-E4C7-425B-B954-0660F0A2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60E4E-3B62-4F2E-AD0A-220DFCE4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603E9-BEF3-47FF-9BE4-393C80D2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DA5EE-4D1E-406C-964E-7376D0DC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696F2-2FBD-4F6B-8DBE-50ABBD10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237D-F895-43BF-9251-1C0F9093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E89AB-13E7-4322-9E6D-11B71D85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2E03C-64B8-415B-B168-B6B7EC8E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6B0EB-06C9-4DCF-BCBE-B6B56506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D7C91-1E72-4F48-B906-36EF9F02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DF935-96A7-409E-88DB-E570045E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18EC-A521-4512-9C37-C5C63815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1EFD-831B-40C3-8DE6-D37BAC97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1DA2-19DC-4D2D-A523-CBE2E03D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7559-6167-403D-837E-27F10081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64C1-B963-4FF9-A217-90C5208E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AA2D-34C7-4265-A674-32E0A326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30AD-91CC-4A2B-A4DC-029608B7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412E-4457-4A8A-9378-51D32CB9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C5C9-BB76-41D1-8F05-B760C3FD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1799-C143-4C1F-B7A2-95D39B96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5FEF-BA14-464B-AFC6-F84B5EF5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BF4A0-BEF6-4644-B4EB-3B77FA2F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6DE08-ECFA-4D75-BF25-8D799F15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D7D87-4131-4F6F-BFE5-65D6E676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F079A-BAC9-4288-AB6A-71178962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1E2ED-015F-495B-AFC7-FDCEE7ED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54E-6916-4BB4-A2A6-8AC5E016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B0F97-ABF0-4A18-8D79-58B71002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19B5E-2455-458F-98E3-78F7CE12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95398-DD5C-4D09-AD06-3FB9198C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5699C-63EB-4760-A6B2-0DD7D034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244BB-F70E-4F29-8CB8-21E998C9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D8D3D-2556-4BF8-850A-A0B80022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0188E-8F85-447A-9CA2-D4738B0E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DBDDD-AC3E-47AA-AFE1-200E55A1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C45D1-A04A-44CC-A3ED-32A7E5D5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D9D5B-8F01-4FAE-A2CD-FF49AEEC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48FB-DEDC-420A-8EE8-D5F831D3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41B2A-A057-4293-AEC4-90244E24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CFEDF-12CC-49F9-9CD7-74500CF5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4CCC9-8EF3-4025-B645-B3DC6F7F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ED199-7760-46F2-9D6B-18861D0C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400EE-B005-4BA9-94A7-79B0F9E9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E7BC8-2E85-4564-83DA-B86B9691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9877B-E2D7-4F71-93C4-D92838CF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7C209-4133-418C-A7BD-39AD425F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85284-9A81-4505-A075-AC336AAA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77099-ADCC-4708-A788-8B36C2EE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665-48F9-45B0-950F-AD038CA8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D48A9-6925-41C1-8BE7-4540A27A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9A5C1-B3C8-4DD0-96A7-E1F2C58B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22670-6A49-4F6D-A455-03D1EA02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D0DE9-755E-4A4B-B4B7-898B9D14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B6987-71D6-41C1-90D0-74798A58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ADC90-A1A8-489A-AEBD-2945C72D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AD175-0473-4FC3-9754-C593123F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AC85F-E44E-4F75-9EF5-48BBB8D9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52788-9949-4DE4-A4C1-7CE0A948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90DE3-DF1F-4E53-80A2-1623C94D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E77-EB65-4E50-B191-0EB02D5F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87AFA-3D33-4878-87DA-E7D9D6DF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9C13E-2DB3-4D4E-B26D-C110B45A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25C8E-7030-4D39-AFF6-C6F7AC4D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0CFBB-BA69-4A3E-BF79-2326BB47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E5CCF-1059-475A-A318-B1DFB74F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EBD9F-EC74-424F-97F0-6687096F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2E314-A89C-46F3-8DB3-26CE5062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BC93D-B9AD-42F3-B811-94D10771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479FD-8A3D-4DB2-BA3E-B1BE0AD9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00ADB-BF12-4495-9ED4-1069FAE9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0893-B0FD-49AD-B3DA-8AF14A7F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3C083-3E55-4261-B84C-B575D788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42A61-29D8-462D-A17B-89470FAF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1A3BA-4AD3-4F34-A0B2-32F95A00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99920-8B21-4BD4-8E57-9D90793C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2194A-3FA1-4740-ABEB-0B58DB0C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234DA-00B1-4F19-9F0A-AF48DCFC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CEB20-E731-4883-A594-0FDDAB7D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308B2-B89B-46DE-9B3B-E4A86C3A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8F53F-37D1-4BD4-BE3F-218283F2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10ACA-93BE-443C-B40B-E4E79120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1BF-F22E-4311-A381-15D41AB6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FA0B3-42AD-49EF-9A0B-47588D85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58128-BAC8-421A-9D47-206025B9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8B006-5F48-43CE-ACA7-81FDC6C2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6F303-6686-4816-ACB3-49FB6FA5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56AA0-9DFE-48B8-84AF-FC4B9180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F323E-E973-4795-BD30-B7480B24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1C186-50C2-4E93-AC5D-93B3D9C7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5C326-D66A-4033-A90D-BCD90D91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17B6D-F3EB-4A06-AFFA-8932AF0D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267A5-E854-4B01-980D-A70D1B08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A773-B78D-4B6F-8899-4E8BF906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A3310-6652-47BD-A997-C6F3E01B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98C10-DB82-4DB7-BB95-DE1A43CA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43583-5529-4955-A87D-EDA8C6F0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0B7E2-42DD-4151-8EE6-63179A3E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8CCF1-05ED-4CAC-8713-BD609BB4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843C4-5F9E-4B37-BBA1-A6F3068A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55ED5-C49B-48BC-8D2C-92857AF9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829EF-47CA-4704-A4E3-A84D4D25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02835-7F5C-48E7-9440-CB9E2206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316C8-BC10-426A-A3FA-C14742EE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76D7-D32F-4266-8BCD-466D8B1C7BB7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0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19A2-119B-43A3-A056-4526738DC3FA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5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78BB-6D3C-40C3-8117-C8A56B2616D5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9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6C66-8F50-4F59-B428-CBB1736EF964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EA0B-8F43-43FA-9900-8741D611C9D1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9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55AE-A73B-4431-B4F1-B8FC4E6040B8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3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A07B-BEE9-4C54-B465-BFCE53B95205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8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BD51-A8FF-4237-AE0A-B3B1F4A1D234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2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7FA2-122E-456D-B9A9-6E4BA55D7FEE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7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DCC2-68C8-4F03-97D3-396082CB461F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1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5D26-D19A-41E7-AA42-A6A9412F6F2A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6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943E-5C1A-4510-A901-23CEF3D257DB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2209680"/>
            <a:ext cx="8382240" cy="1470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Fare Payment System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3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mtasymbolpms286"/>
          <p:cNvPicPr/>
          <p:nvPr/>
        </p:nvPicPr>
        <p:blipFill>
          <a:blip r:embed="rId1"/>
          <a:stretch/>
        </p:blipFill>
        <p:spPr>
          <a:xfrm>
            <a:off x="3835440" y="91440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E7C8-7576-48A1-B68C-66108005E2AE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 of bus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commercial relationship with payments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way communication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A-issued card &amp;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from Metro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ng forward: Next 6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detailed requirements for MTA-issued card and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roject Plan: requirements, cost estimate, schedule, procur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ayments industry negoti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ze subway communications network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System Integ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 hardware on Staten Island 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5E59-7929-4331-8F81-8AD0405B280B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7A1A-7B20-4365-892D-346944EC7A70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ost of revenu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15¢ cost per revenue dollar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fare payment across modes &amp;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reduce cash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performance at turnstiles &amp;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up bus boarding and reduce dwe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-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0A05-F826-4992-BBA7-50AC665E3D46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-based, not card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like E-Z Pass, less like Metro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 may reside with bank, MTA, mobile phone network or othe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ent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ustomer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swipe, at readers on turnstiles and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 contactless credit/debit card, prepaid card, phone or MTA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0324-8872-4355-98CC-D7BAAC3C149A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e customers to self-serve on-line, at ATMs and kiosks, and via widespread external network of retail merch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e existing payment industry infrastructure, products an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elatively inexpensive and commercially available off-the-shelf-hardware and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ble to all modes and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involved in concep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have or will have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06DF-A6C3-4E63-B6DC-4E1CA3EDF392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ter railroad pi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ilot for each LIRR and MN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board and off-board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test handhel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s commence in 1Q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A14E-FDDD-4E54-9FE7-B3276B4372FC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FDFB-DF3B-4007-948E-BE282C1A4B16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C8C7-6058-449F-AE14-BE5C1EB4D252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: Supp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industry interest about thi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0: 150 representatives from 80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 industry including banks and other issuers, card brands, acqui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integ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network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e collection system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ervice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38FB-C951-47E8-B383-50C17F6A8092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y outreach: Transit autho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implementations of open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don (Tf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 Lake City (U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lose contact with major US transit systems that are procuring open paymen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with regional partners on seamless intermodal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YNJ/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8:28:26Z</dcterms:created>
  <dc:creator>Amy Linden</dc:creator>
  <dc:description/>
  <dc:language>en-US</dc:language>
  <cp:lastModifiedBy>Amy Linden</cp:lastModifiedBy>
  <cp:lastPrinted>2011-05-17T22:27:13Z</cp:lastPrinted>
  <dcterms:modified xsi:type="dcterms:W3CDTF">2011-05-19T17:45:26Z</dcterms:modified>
  <cp:revision>458</cp:revision>
  <dc:subject/>
  <dc:title>New Fare Payment Systems</dc:title>
</cp:coreProperties>
</file>